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429D-97A0-4778-BF13-02A2D91F9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a:t>
            </a:r>
            <a:r>
              <a:rPr b="0" lang="en-US" sz="1200" spc="-1" strike="noStrike">
                <a:solidFill>
                  <a:srgbClr val="000000"/>
                </a:solidFill>
                <a:latin typeface="Times New Roman"/>
              </a:rPr>
              <a:t>Welcome to “Writing Business Messages.”   This presentation is designed to help writers analyze their audience and organize information effectively in business messages. The 41 slides presented here are designed to aid the facilitator in an interactive presentation about the business writing process.  This presentation is ideal for any writer who desires to write more effective and persuasive business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s:</a:t>
            </a:r>
            <a:r>
              <a:rPr b="0" lang="en-US" sz="1200" spc="-1" strike="noStrike">
                <a:solidFill>
                  <a:srgbClr val="000000"/>
                </a:solidFill>
                <a:latin typeface="Times New Roman"/>
              </a:rPr>
              <a:t> Each slide is activated by a single mouse click, unless otherwise noted in bold at the bottom of each notes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 and Designer: Angela Laflen, with contributions from Stephanie Williams Hughes and Victoria Kell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with resources courtesy of the Purdue University Writing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funding courtesy of the Multimedia Instructional Development Center at Purdu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Copyright Purdue Universit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lists some strategies writers can take to meet the needs of skeptical readers.  These strategies will be discussed in greater detail later in the pre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facilitator should stress that documents will be most effective if writers write for both skimmers and skeptics and if writers take their specific readers’ needs into account.  It is also important to stress that what writers learn about their audience should effect the decisions that they make in writing their mess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ate the right-hand column with a single mouse clic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introduces three of the most common expectations that American readers share.  Each expectation will be discussed in the following sli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r>
              <a:rPr b="0" lang="en-US" sz="1200" spc="-1" strike="noStrike">
                <a:solidFill>
                  <a:srgbClr val="000000"/>
                </a:solidFill>
                <a:latin typeface="Times New Roman"/>
              </a:rPr>
              <a:t>  Readers are busy.  They want to know why the document deserves their time before committing to read it.  Since they will be expecting it early, they also may miss your main point if it comes late in the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pectation has an advantage for writers as well as for readers; it helps writers to understand what their purpose is in writing.  Often, writers do not answer the question  “what is your point?” because they aren’t sure what their point is.  Thinking about this from the reader’s perspective helps writers to establish what their purpose is in writing.  Establishing the purpose of a message is crucial to effectively organizing and developing the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above statement goes on for several lines and the writer still has not revealed his or her purpose. A busy personnel director might skip over this request and make it a last priority</a:t>
            </a:r>
            <a:r>
              <a:rPr b="0" lang="en-US" sz="1200" spc="-1" strike="noStrike">
                <a:solidFill>
                  <a:srgbClr val="000000"/>
                </a:solidFill>
                <a:latin typeface="Verdana"/>
              </a:rPr>
              <a:t>.</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example demonstrates how a writer might state his or her main point up front before introducing background inform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explains that even bad news should be delivered up front, and the second example demonstrates how a writer can use language to cushion bad news even when delivering it up fr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example is activated by a single mouse clic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Writers should strive to have their writing go unnoticed by readers because it reads so smoothly that the reader has no cause to consider it in detail.  Using words that readers are unfamiliar with or long, complicated sentences and paragraphs are sure ways to draw attention to wri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helps to illustrate how much easier sentences are to read when they use simple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ight-hand column is activated by a single mous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  </a:t>
            </a:r>
            <a:r>
              <a:rPr b="0" lang="en-US" sz="1200" spc="-1" strike="noStrike">
                <a:solidFill>
                  <a:srgbClr val="000000"/>
                </a:solidFill>
                <a:latin typeface="Times New Roman"/>
                <a:ea typeface="Arial Unicode MS"/>
              </a:rPr>
              <a:t>What simpler words could be substituted for the words below?  Rewrite the sentence below using simpler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Ascertain (lea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Endeavor (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Enumerate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abricate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dispensable (v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Modificatio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Recapitulat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tilization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o recapitulate, our utilization of adulterated water precipitated the interminable de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To review, our use of impure water caused the endless/long de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Examples taken from Ober, Scott.  </a:t>
            </a:r>
            <a:r>
              <a:rPr b="0" lang="en-US" sz="1200" spc="-1" strike="noStrike" u="sng">
                <a:solidFill>
                  <a:srgbClr val="000000"/>
                </a:solidFill>
                <a:uFillTx/>
                <a:latin typeface="Times New Roman"/>
                <a:ea typeface="Arial Unicode MS"/>
              </a:rPr>
              <a:t>Contemporary Business Communication</a:t>
            </a:r>
            <a:r>
              <a:rPr b="0" lang="en-US" sz="1200" spc="-1" strike="noStrike">
                <a:solidFill>
                  <a:srgbClr val="000000"/>
                </a:solidFill>
                <a:latin typeface="Times New Roman"/>
                <a:ea typeface="Arial Unicode MS"/>
              </a:rPr>
              <a:t>.  2</a:t>
            </a:r>
            <a:r>
              <a:rPr b="0" lang="en-US" sz="1200" spc="-1" strike="noStrike" baseline="30000">
                <a:solidFill>
                  <a:srgbClr val="000000"/>
                </a:solidFill>
                <a:latin typeface="Times New Roman"/>
                <a:ea typeface="Arial Unicode MS"/>
              </a:rPr>
              <a:t>nd</a:t>
            </a:r>
            <a:r>
              <a:rPr b="0" lang="en-US" sz="1200" spc="-1" strike="noStrike">
                <a:solidFill>
                  <a:srgbClr val="000000"/>
                </a:solidFill>
                <a:latin typeface="Times New Roman"/>
                <a:ea typeface="Arial Unicode MS"/>
              </a:rPr>
              <a:t> edition.  Boston:  Houghto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Passive statements can convey a clear message and in many cases are grammatically correct. However, passive phrases are often overused by wri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Because business writing is fundamentally persuasive, audience is crucial to its success.  It is difficult to convince someone of something without taking that person’s feelings, perspective, and needs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ate each item in the list with a single mouse clic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facilitator should stress that although passive voice is often overused in business writing, it is not entirely inappropriate and in fact serves an important function at times.  Especially when a writer needs to sound diplomatic, passive voice should be used instead of active voi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demonstrates a case when using passive voice is preferable to using active voice.  The passive example is less confrontational than the active examp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lists the three instances in which writers should use passive voice.  An example of each type of passive voice is list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item in the list is activated by a single mouse clic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reminds the audience that readers from other cultures will often have different reader expectations than those from the United States.  Writers would be wise to consider the different expectations readers might have when writing to those from other cultures.  For example, some readers from other cultures will not want the main point up front but will want a polite introduction firs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lists four strategies writers can use to help them effectively communicate with readers from other cultures.  The second point is especially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item in the list is activated by a single mous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lang="en-US" sz="1200" spc="-1" strike="noStrike">
                <a:solidFill>
                  <a:srgbClr val="000000"/>
                </a:solidFill>
                <a:latin typeface="Times New Roman"/>
                <a:ea typeface="Arial Unicode MS"/>
              </a:rPr>
              <a:t>What about this message might confuse the international student who received it?  How could the message be revised to meet the needs of an international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 received a complaint that loud noise was coming from your room after hours on Friday, September 14, and am writing to warn you that you will need to keep it down in the future so as to avoid disciplinary action.  If you are unfamiliar with the policy on noise, please read pages 4-6 of the guidebook issued to you at the beginning of the year.  If you have any questions, please contact me at 555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introduces the concept of content to the audience.  What a writer learns about his or her audience should directly influence the content he or she includes in the messa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offers practical advice for planning the content of a message, including questions writers should ask before beginning to write the content of their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bulleted point is activated by a single mouse clic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introduces the audience to three common methods that writers use to help them determine what content to include in their messages.  They will be discussed in greater detail in the next three slid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considers the method of outlining specifically.  The facilitator should stress that some writers have trouble outlining until they have already planned their message, but for others it can be helpful.  Writers should not feel like they cannot change their outline as they advance in their planning proces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considers the method of brainstorming.  This method can be very helpful in overcoming writer’s block and in discovering what a writer does and does not know about a sub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r>
              <a:rPr b="0" lang="en-US" sz="1200" spc="-1" strike="noStrike">
                <a:solidFill>
                  <a:srgbClr val="000000"/>
                </a:solidFill>
                <a:latin typeface="Times New Roman"/>
              </a:rPr>
              <a:t>  The facilitator should stress that considering audience helps writers to make their documents relevant to readers, indicates how much information they need to include, and helps them to organize information clea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introduces the method of clustering, which helps writers to create a visual hierarchy while still allowing them the freedom of brainstorm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facilitator should stress that organization is crucial to the success of a business message.  It is important to organize information in a way that will appear logical to readers and that will be most persuasive to th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presents the first two steps a writer should take when considering organization.  Much of the decision about how to organize is based on whether the writer expects a positive or negative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graphic is activated by a single mouse click.</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explains that if a writer expects a positive reaction from the reader, he or she should use the direct organizational plan, and the slide explains what that plan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t>
            </a:r>
            <a:r>
              <a:rPr b="0" lang="en-US" sz="1200" spc="-1" strike="noStrike">
                <a:solidFill>
                  <a:srgbClr val="000000"/>
                </a:solidFill>
                <a:latin typeface="Times New Roman"/>
              </a:rPr>
              <a:t> The sample is taken from the opening paragraph of a cover letter.  Notice how the writer presents the conclusion that she is qualified for the position in the second sentence.  The rest of the letter will work to prove that this is tru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explains that if writers expect a negative reaction from their readers, they should use an indirect organizational plan, even though they should still state their main point up fr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r>
              <a:rPr b="0" lang="en-US" sz="1200" spc="-1" strike="noStrike">
                <a:solidFill>
                  <a:srgbClr val="000000"/>
                </a:solidFill>
                <a:latin typeface="Times New Roman"/>
              </a:rPr>
              <a:t>  In the example, the writer turns down a request to serve on a committee, explaining the reasons why in positive sounding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Readers from other cultures will often expect writers to use an indirect organizational plan, even for good-news messages.  Some readers find messages written in the direct organizational plan harsh and abrupt, lacking courtesy.  Writers should try to adapt their style to the needs of the reader.  An easy way to tell whether an international reader will expect messages in an indirect style is to look at the way that they deliver messages.  Writers should adapt their style of writing accord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reintroduces the terms skimmers and skeptics and suggests that writers should organize paragraphs to meet the needs of these reader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explains where readers are most likely to look for information in a message.  Taking this into account will help writers to meet the needs of skimmers, who only glance briefly at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point is activated by a single mouse clic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discusses how writers can use paragraphs most effectively.  Short, well developed paragraphs will appeal to both skimmers and ske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point is activated by a single mouse click.</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facilitator should stress that evaluating a message in terms of audience is part of the revision process, and ultimately part of the writing proces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outlines one practical strategy for determining how successfully a message meets the needs of a skimmer.  The strategy is based on the statistic that says that many business readers claim to spend 20 seconds on messages before deciding whether to read further or disc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Longer business documents might be skimmed for longer than 20 seconds.  It is a good rule to skim each page of a business document for 2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bulleted item is activated by a single mous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lang="en-US" sz="1200" spc="-1" strike="noStrike">
                <a:solidFill>
                  <a:srgbClr val="000000"/>
                </a:solidFill>
                <a:latin typeface="Times New Roman"/>
                <a:ea typeface="Arial Unicode MS"/>
              </a:rPr>
              <a:t>Skim the following letter for 20 seconds, and mark what stands out most to you in that amount of time.  Is the information you marked able to clearly convey the mess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 15,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bert W.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nel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ldden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ad 35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fayette, IN  479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ar Mr.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ffective time management is important for success in the position of receiving and delivering.  You need look no further for someone to fill the position you advertised in the Feb. 28, 2002 edition of the </a:t>
            </a:r>
            <a:r>
              <a:rPr b="0" lang="en-US" sz="1200" spc="-1" strike="noStrike" u="sng">
                <a:solidFill>
                  <a:srgbClr val="000000"/>
                </a:solidFill>
                <a:uFillTx/>
                <a:latin typeface="Times New Roman"/>
                <a:ea typeface="Times New Roman"/>
              </a:rPr>
              <a:t>Journal and Courier</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ring my tenure at Cobel’s my duties provided me with valuable understanding of inventory ordering, receiving, stocking, and delivering.  Customers would place orders and it was my responsibility to promptly and accurately fill these orders.  Delivery of the merchandise and collection of the amount due were assigned to me.  This dependence showed the importance I played in the operation of the company.  I will do whatever it takes to please the customer, and I have heard that Goldden goes above and beyond to make sure that everyone with whom they have contact is satisfi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have been named to the Dean’s list five of the six semesters I played baseball.  The organizational and interpersonal skills I learn through baseball are also used outside of the diamond.  I commit approximately 35 hours a week practicing, traveling and playing baseball.  The baseball program demands strong self-discipline, organization, and effective time management to become an individual success.  I was selected captain by team members during a championship season in 2000.  I also have proficient knowledge of computers and can operate words processing programs, spreadsheet programs, and database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y experience with inventory operations, computers, and people makes me the person to fill the position of receiving and delivery.  I plan to schedule an interview with you next week to discuss my new job at your company.  You may contact me at (555) 555-1234.  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r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ob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34 Main 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fayette, IN  479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closure:  Resum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 facilitator should stress that writers should use different strategies depending on whether they are writing to someone they know or someone they don’t know.  Writers should also take into account whether they are writing to one person or more than one person.  The more people that read a message, the more reading needs the writer will have to take into accou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offers another practical way to evaluate the success of a message.  This strategy is designed to help writers proofread for skeptical rea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rtions:</a:t>
            </a:r>
            <a:r>
              <a:rPr b="0" lang="en-US" sz="1200" spc="-1" strike="noStrike">
                <a:solidFill>
                  <a:srgbClr val="000000"/>
                </a:solidFill>
                <a:latin typeface="Times New Roman"/>
              </a:rPr>
              <a:t> what you claim and want the reader to believe i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item is activated by a single mouse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lang="en-US" sz="1200" spc="-1" strike="noStrike">
                <a:solidFill>
                  <a:srgbClr val="000000"/>
                </a:solidFill>
                <a:latin typeface="Times New Roman"/>
                <a:ea typeface="Arial Unicode MS"/>
              </a:rPr>
              <a:t>Look closely at this recommendation letter and underline the writer’s major assertions.  What evidence is used to support the assertions?  Is this evidence clear and effective, or does it need to be revised?  (Participants will probably need about five minutes to read the letter and examine its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eptember 19,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Lucy Letter                                                                                                                                      123 Winner’s Road</a:t>
            </a:r>
            <a:br>
              <a:rPr sz="1200"/>
            </a:br>
            <a:r>
              <a:rPr b="0" lang="en-US" sz="1200" spc="-1" strike="noStrike">
                <a:solidFill>
                  <a:srgbClr val="000000"/>
                </a:solidFill>
                <a:latin typeface="Times New Roman"/>
                <a:ea typeface="Arial Unicode MS"/>
              </a:rPr>
              <a:t>New Employee Town, PA 123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ar Ms. 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 am pleased to recommend Jack Spratt for the position of Oracle One Consultant.  </a:t>
            </a:r>
            <a:r>
              <a:rPr b="0" lang="en-US" sz="1200" spc="-1" strike="noStrike">
                <a:solidFill>
                  <a:srgbClr val="000000"/>
                </a:solidFill>
                <a:latin typeface="Times New Roman"/>
                <a:ea typeface="Arial Unicode MS"/>
              </a:rPr>
              <a:t>I believe that Jack’s experience with international customers as a Technical Service Engineer Intern and his coursework using Oracle 7.3 would make him an asset to Ora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 met Jack two years ago when he was hired as a Technical Engineer Intern for our company.  I supervised Jack in this position, and I saw the way that he learned and understood the effect of different cultures and the role it plays in business development.  Success in international business does not always depend on the best product but largely on adjustment to the customer’s cultural background.  This is an expertise that Jack can bring to Oracle as a consul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Jack’s Oracle application experiences using Oracle 7.3 are also impressive.  I have learned that his experiences include coursework in using triggers, stored procedures, SQL, query optimization, database management system (DBMS) selection, database technology installation, database creation and maintenance, DBMS operation and trouble shooting, data warehousing technology, database performance tuning, and database re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Jack would make an excellent Oracle One Consultant, and I wholeheartedly recommend him for this position. Please contact me if you have any questions at 555-55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incer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Peter Pi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1234 Main 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Lafayette, IN  479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Purdue’s Writing Lab offers a variety of services to writers.  Purdue students can schedule one-on-one tutoring sessions with tutors trained in writing business messages.  Writers can also call the Grammar Hotline or email the writing lab with brief questions they have as they write business documents.  It is also a good idea to check out the writing lab web site, which offers a variety of online handouts and workshops related to the job 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A writer’s audience is anyone who may read the message, and often business messages are written for a specific reader or group of readers.  It is definitely worth the writer’s time to consider the needs of his/her reader(s) before beginning to write because it can help to establish appropriate language, content, and tone for the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ese questions can help the writer to think specifically about his or her audience.  They address the reader’s </a:t>
            </a:r>
            <a:r>
              <a:rPr b="1" i="1" lang="en-US" sz="1200" spc="-1" strike="noStrike">
                <a:solidFill>
                  <a:srgbClr val="000000"/>
                </a:solidFill>
                <a:latin typeface="Times New Roman"/>
              </a:rPr>
              <a:t>knowledge, interest level, purpose, and personality</a:t>
            </a:r>
            <a:r>
              <a:rPr b="0" lang="en-US" sz="1200" spc="-1" strike="noStrike">
                <a:solidFill>
                  <a:srgbClr val="000000"/>
                </a:solidFill>
                <a:latin typeface="Times New Roman"/>
              </a:rPr>
              <a:t>.  All of these factors influence the way a reader will understand a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ate each item in the list with a single mouse cli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r>
              <a:rPr b="0" lang="en-US" sz="1200" spc="-1" strike="noStrike">
                <a:solidFill>
                  <a:srgbClr val="000000"/>
                </a:solidFill>
                <a:latin typeface="Times New Roman"/>
              </a:rPr>
              <a:t>  This slide introduces the audience to the two general types of business readers.  It is important that writers take both types of readers into account when writing for an audience they do not know personally or we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introduces the audience to skimmers, readers who are busy and look quickly at documents before deciding whether to commit their time to reading further or not.  The slide also lists three steps writers can take to meet the needs of skimmers.  The first two steps will be discussed in greater detail later in the present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r>
              <a:rPr b="0" lang="en-US" sz="1200" spc="-1" strike="noStrike">
                <a:solidFill>
                  <a:srgbClr val="000000"/>
                </a:solidFill>
                <a:latin typeface="Times New Roman"/>
              </a:rPr>
              <a:t>  This slide introduces the audience to the skeptical reader, or the reader who will question the document to see whether it is convinc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8F083-66BA-4072-AA2C-ECD87E4E6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14F03-D1F7-4731-BD60-FA375F09A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0ABAC-5DE0-48BE-8567-1C4DE3A7B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A308D-55AB-478B-86CF-4AEA5A0D1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9CCCC-869B-434C-BCCE-135604DBB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0E039-F308-42D6-9622-10DED0FAF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F9FEF-E48C-418D-896C-B440FF97B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8A781-7FEA-410C-AED9-25A8B3A46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ACBD6-54E3-4D6E-AECB-760B34F0D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B08CB-0121-4D9C-B623-31A6828BD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63F79-56C6-46D0-87BF-3A4A6CD7F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0D47E-783A-4CB6-9C39-D09B86275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D1D3B-9210-4664-ACDD-1117E540D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4893D-8FCB-425E-ADF3-023E0BAC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75335-72F9-477E-BCEF-FF840C47E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E5E14-1150-4A41-9614-1EF5EEC6E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F143E-1178-4EEB-BC4E-4B5C023E2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58C7-7580-45B4-A53C-5ADCC21AC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CC89A-C265-4172-BFB8-B3BD568B2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E796E-D322-44DD-982E-468FEA928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89056-62C5-4A64-8399-73E46C11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96E9-0393-4281-9BCB-BE83E23C3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909C-BF26-4269-ACAC-49035506E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A999-7A60-4C03-9419-A301FA4B3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cf57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cf573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6853-A83E-4ABC-9CDD-D501E1E6FF3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cf573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0CCA-CBE5-46B9-A92F-C119394ED89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riting Business Messages</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rought to you by the Purdue University Writing Lab</a:t>
            </a:r>
            <a:endParaRPr b="0" lang="en-US" sz="2800" spc="-1" strike="noStrike">
              <a:solidFill>
                <a:srgbClr val="006666"/>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you do not know your reader</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order to meet the needs of the Skeptical reader, it is necessary to support your statements with sufficient details and evid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specific examples, numbers, dates, names, and percentages to meet the needs of the skeptical read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now your audience</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ing your audience is only the first ste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This information must affect the way that you write your messag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So, how can you write for both skimmers and skeptics at the same time?   </a:t>
            </a:r>
            <a:endParaRPr b="0" lang="en-US" sz="2400" spc="-1" strike="noStrike">
              <a:solidFill>
                <a:srgbClr val="003366"/>
              </a:solidFill>
              <a:latin typeface="Arial"/>
            </a:endParaRPr>
          </a:p>
        </p:txBody>
      </p:sp>
      <p:sp>
        <p:nvSpPr>
          <p:cNvPr id="131"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Using knowledge of your audience to develop and organize the content of your message will help you to create documents that can be skimmed easily </a:t>
            </a:r>
            <a:r>
              <a:rPr b="0" lang="en-US" sz="2400" spc="-1" strike="noStrike" u="sng">
                <a:solidFill>
                  <a:srgbClr val="003366"/>
                </a:solidFill>
                <a:uFillTx/>
                <a:latin typeface="Arial"/>
                <a:ea typeface="Times New Roman"/>
              </a:rPr>
              <a:t>and</a:t>
            </a:r>
            <a:r>
              <a:rPr b="0" lang="en-US" sz="2400" spc="-1" strike="noStrike">
                <a:solidFill>
                  <a:srgbClr val="003366"/>
                </a:solidFill>
                <a:latin typeface="Arial"/>
                <a:ea typeface="Times New Roman"/>
              </a:rPr>
              <a:t> read critically.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dience expectations</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document will be most successful if it matches the reader’s expectation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readers from a Western context will share the same general expectations.   </a:t>
            </a:r>
            <a:endParaRPr b="0" lang="en-US" sz="2400" spc="-1" strike="noStrike">
              <a:solidFill>
                <a:srgbClr val="003366"/>
              </a:solidFill>
              <a:latin typeface="Arial"/>
            </a:endParaRPr>
          </a:p>
        </p:txBody>
      </p:sp>
      <p:sp>
        <p:nvSpPr>
          <p:cNvPr id="134"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ee of the most common expectations are that your message will: </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t to the point</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 kept as simple as possible</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passive and active voice appropriately</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 to the point</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aders will expect you to answer the question, </a:t>
            </a:r>
            <a:r>
              <a:rPr b="0" lang="en-US" sz="2400" spc="-1" strike="noStrike">
                <a:solidFill>
                  <a:srgbClr val="cf5731"/>
                </a:solidFill>
                <a:latin typeface="Arial"/>
              </a:rPr>
              <a:t>“so what is your point?”</a:t>
            </a:r>
            <a:r>
              <a:rPr b="0" lang="en-US" sz="2400" spc="-1" strike="noStrike">
                <a:solidFill>
                  <a:srgbClr val="003366"/>
                </a:solidFill>
                <a:latin typeface="Arial"/>
              </a:rPr>
              <a:t> early in the document, regardless of the type of document they are reading.</a:t>
            </a:r>
            <a:endParaRPr b="0" lang="en-US" sz="2400" spc="-1" strike="noStrike">
              <a:solidFill>
                <a:srgbClr val="003366"/>
              </a:solidFill>
              <a:latin typeface="Arial"/>
            </a:endParaRPr>
          </a:p>
        </p:txBody>
      </p:sp>
      <p:sp>
        <p:nvSpPr>
          <p:cNvPr id="137"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iew your main idea so that readers will know what to expe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when delivering bad news, it is best to state the main point early in the document.</a:t>
            </a:r>
            <a:endParaRPr b="0" lang="en-US" sz="2400" spc="-1" strike="noStrike">
              <a:solidFill>
                <a:srgbClr val="0033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 to the poi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39"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re is an example of a hidden main point in requesting an employment verification.</a:t>
            </a:r>
            <a:endParaRPr b="0" lang="en-US" sz="2400" spc="-1" strike="noStrike">
              <a:solidFill>
                <a:srgbClr val="003366"/>
              </a:solidFill>
              <a:latin typeface="Arial"/>
            </a:endParaRPr>
          </a:p>
        </p:txBody>
      </p:sp>
      <p:sp>
        <p:nvSpPr>
          <p:cNvPr id="140"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Dear Personnel Director:</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On March 27, I received a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phone call from Mrs. Karen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Krane from New York, who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was once a data entry clerk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in your Ohio office. She was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under the direct supervision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of.....</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 to the point</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Here is the same example rewritten so that the main point is clear.</a:t>
            </a:r>
            <a:endParaRPr b="0" lang="en-US" sz="2600" spc="-1" strike="noStrike">
              <a:solidFill>
                <a:srgbClr val="003366"/>
              </a:solidFill>
              <a:latin typeface="Arial"/>
            </a:endParaRPr>
          </a:p>
        </p:txBody>
      </p:sp>
      <p:sp>
        <p:nvSpPr>
          <p:cNvPr id="143"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Dear Personnel Director:</a:t>
            </a:r>
            <a:br>
              <a:rPr sz="2400"/>
            </a:b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Would you verify the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employment of Mrs. Kare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Krane? She was a data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entry clerk in your Ohio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office (fill in the details)</a:t>
            </a:r>
            <a:br>
              <a:rPr sz="2400"/>
            </a:br>
            <a:endParaRPr b="0" lang="en-US" sz="2400" spc="-1" strike="noStrike">
              <a:solidFill>
                <a:srgbClr val="0033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 to the point</a:t>
            </a:r>
            <a:endParaRPr b="1" lang="en-US" sz="3600" spc="-1" strike="noStrike">
              <a:solidFill>
                <a:srgbClr val="006666"/>
              </a:solidFill>
              <a:latin typeface="Arial"/>
            </a:endParaRPr>
          </a:p>
        </p:txBody>
      </p:sp>
      <p:sp>
        <p:nvSpPr>
          <p:cNvPr id="14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bad news should always be delivered up fron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cushion bad news by the language you use. When delivering bad news, do not be too aggressive, as in the first example.</a:t>
            </a:r>
            <a:endParaRPr b="0" lang="en-US" sz="2400" spc="-1" strike="noStrike">
              <a:solidFill>
                <a:srgbClr val="003366"/>
              </a:solidFill>
              <a:latin typeface="Arial"/>
            </a:endParaRPr>
          </a:p>
        </p:txBody>
      </p:sp>
      <p:sp>
        <p:nvSpPr>
          <p:cNvPr id="14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Not:  We must hire a new secretary now.</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But:  I know that you do not think we should hire a new secretary now, but I really think we need to. Please let me explain my reas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ep it simple</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o not feel compelled to use bigger words or more complex sentences to build credibility with your audienc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49"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ain reasons to avoid such an approach are: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you might be perceived as a con artist o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 your message might become confusing.</a:t>
            </a:r>
            <a:br>
              <a:rPr sz="2400"/>
            </a:b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ep it simple</a:t>
            </a:r>
            <a:endParaRPr b="1" lang="en-US" sz="3600" spc="-1" strike="noStrike">
              <a:solidFill>
                <a:srgbClr val="006666"/>
              </a:solidFill>
              <a:latin typeface="Arial"/>
            </a:endParaRPr>
          </a:p>
        </p:txBody>
      </p:sp>
      <p:sp>
        <p:nvSpPr>
          <p:cNvPr id="151"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example using “impressive” words:</a:t>
            </a:r>
            <a:endParaRPr b="0" lang="en-US" sz="24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Subsequent to th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passage of the subjec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legislation, it is incumben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upon you to advise your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organization to comply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with i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2"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example using simple word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After the law passe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you must tell you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people to comply with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it.</a:t>
            </a:r>
            <a:br>
              <a:rPr sz="2400"/>
            </a:br>
            <a:endParaRPr b="0" lang="en-US" sz="24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active and passive voice appropriately</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fontScale="89000"/>
          </a:bodyPr>
          <a:p>
            <a:pPr marL="338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Passive voice has three </a:t>
            </a:r>
            <a:endParaRPr b="0" lang="en-US" sz="2200" spc="-1" strike="noStrike">
              <a:solidFill>
                <a:srgbClr val="003366"/>
              </a:solidFill>
              <a:latin typeface="Arial"/>
            </a:endParaRPr>
          </a:p>
          <a:p>
            <a:pPr marL="3387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basic characteristics:</a:t>
            </a:r>
            <a:endParaRPr b="0" lang="en-US" sz="22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 form of the verb to be </a:t>
            </a: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am, are, was, were, be, </a:t>
            </a: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en, or being).</a:t>
            </a: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 past participle (a verb </a:t>
            </a: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ding in -ed or -en except </a:t>
            </a: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rregular verbs like kept). </a:t>
            </a: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 prepositional phrase </a:t>
            </a:r>
            <a:endParaRPr b="0" lang="en-US" sz="2000" spc="-1" strike="noStrike">
              <a:solidFill>
                <a:srgbClr val="003366"/>
              </a:solidFill>
              <a:latin typeface="Arial"/>
            </a:endParaRPr>
          </a:p>
          <a:p>
            <a:pPr marL="338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ginning with by</a:t>
            </a:r>
            <a:endParaRPr b="0" lang="en-US" sz="2000" spc="-1" strike="noStrike">
              <a:solidFill>
                <a:srgbClr val="003366"/>
              </a:solidFill>
              <a:latin typeface="Arial"/>
            </a:endParaRPr>
          </a:p>
        </p:txBody>
      </p:sp>
      <p:sp>
        <p:nvSpPr>
          <p:cNvPr id="155"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ere is a sentence using all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ree characteristics: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a:t>
            </a:r>
            <a:r>
              <a:rPr b="0" lang="en-US" sz="2200" spc="-1" strike="noStrike">
                <a:solidFill>
                  <a:srgbClr val="cf5731"/>
                </a:solidFill>
                <a:latin typeface="Arial"/>
              </a:rPr>
              <a:t>The matter is being looked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into by the committe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nother sample of a passive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ntenc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a:t>
            </a:r>
            <a:r>
              <a:rPr b="0" lang="en-US" sz="2200" spc="-1" strike="noStrike">
                <a:solidFill>
                  <a:srgbClr val="cf5731"/>
                </a:solidFill>
                <a:latin typeface="Arial"/>
              </a:rPr>
              <a:t>You have been given an </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extension on your loan.” </a:t>
            </a:r>
            <a:br>
              <a:rPr sz="2200"/>
            </a:br>
            <a:endParaRPr b="0" lang="en-US" sz="22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now your audience</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 writing is persuasive writ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e most basic level, business writing seeks to convince the reader that what is being said is tru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business writing will try to persuade the reader to take an action or think about something a certain way.  </a:t>
            </a:r>
            <a:endParaRPr b="0" lang="en-US" sz="2800" spc="-1" strike="noStrike">
              <a:solidFill>
                <a:srgbClr val="003366"/>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active and passive voice appropriately</a:t>
            </a:r>
            <a:endParaRPr b="1" lang="en-US" sz="3600" spc="-1" strike="noStrike">
              <a:solidFill>
                <a:srgbClr val="006666"/>
              </a:solidFill>
              <a:latin typeface="Arial"/>
            </a:endParaRPr>
          </a:p>
        </p:txBody>
      </p:sp>
      <p:sp>
        <p:nvSpPr>
          <p:cNvPr id="15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Passive voice is often overused in business writing.</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A writer uses passive voice to purposefully leave out the actor or subject of the sentence in an effort to sound more diplomatic. </a:t>
            </a:r>
            <a:endParaRPr b="0" lang="en-US" sz="3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active and passive voice appropriately</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Active: You are past due on your registration payment.</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Passive: Your registration payment is past due.</a:t>
            </a:r>
            <a:endParaRPr b="0" lang="en-US" sz="2200" spc="-1" strike="noStrike">
              <a:solidFill>
                <a:srgbClr val="003366"/>
              </a:solidFill>
              <a:latin typeface="Arial"/>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passive example is less confrontational. It takes the actor out of the sentence so that the message does not appear to blame someone.  </a:t>
            </a:r>
            <a:br>
              <a:rPr sz="2200"/>
            </a:br>
            <a:r>
              <a:rPr b="0" lang="en-US" sz="2200" spc="-1" strike="noStrike">
                <a:solidFill>
                  <a:srgbClr val="003366"/>
                </a:solidFill>
                <a:latin typeface="Arial"/>
              </a:rPr>
              <a:t> </a:t>
            </a:r>
            <a:endParaRPr b="0" lang="en-US" sz="2200" spc="-1" strike="noStrike">
              <a:solidFill>
                <a:srgbClr val="003366"/>
              </a:solidFill>
              <a:latin typeface="Arial"/>
            </a:endParaRPr>
          </a:p>
        </p:txBody>
      </p:sp>
      <p:pic>
        <p:nvPicPr>
          <p:cNvPr id="160" name="pe01590_" descr=""/>
          <p:cNvPicPr/>
          <p:nvPr/>
        </p:nvPicPr>
        <p:blipFill>
          <a:blip r:embed="rId1"/>
          <a:stretch/>
        </p:blipFill>
        <p:spPr>
          <a:xfrm>
            <a:off x="4991040" y="2592360"/>
            <a:ext cx="3924360" cy="327204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passive and active voice appropriately</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passive voic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when you don't know the actor (</a:t>
            </a:r>
            <a:r>
              <a:rPr b="0" lang="en-US" sz="2400" spc="-1" strike="noStrike">
                <a:solidFill>
                  <a:srgbClr val="cf5731"/>
                </a:solidFill>
                <a:latin typeface="Arial"/>
              </a:rPr>
              <a:t>The door was left unlocked</a:t>
            </a:r>
            <a:r>
              <a:rPr b="0" lang="en-US" sz="2400" spc="-1" strike="noStrike">
                <a:solidFill>
                  <a:srgbClr val="003366"/>
                </a:solidFill>
                <a:latin typeface="Arial"/>
              </a:rPr>
              <a: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when the actor is unimportant to the point you're making (</a:t>
            </a:r>
            <a:r>
              <a:rPr b="0" lang="en-US" sz="2400" spc="-1" strike="noStrike">
                <a:solidFill>
                  <a:srgbClr val="cf5731"/>
                </a:solidFill>
                <a:latin typeface="Arial"/>
              </a:rPr>
              <a:t>The office will be open on Monday</a:t>
            </a:r>
            <a:r>
              <a:rPr b="0" lang="en-US" sz="2400" spc="-1" strike="noStrike">
                <a:solidFill>
                  <a:srgbClr val="003366"/>
                </a:solidFill>
                <a:latin typeface="Arial"/>
              </a:rPr>
              <a: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when the emphasis is clearly not on the actor but on the acted upon (</a:t>
            </a:r>
            <a:r>
              <a:rPr b="0" lang="en-US" sz="2400" spc="-1" strike="noStrike">
                <a:solidFill>
                  <a:srgbClr val="cf5731"/>
                </a:solidFill>
                <a:latin typeface="Arial"/>
              </a:rPr>
              <a:t>What happened to the student who plagiarized their paper? The student was failed.</a:t>
            </a:r>
            <a:r>
              <a:rPr b="0" lang="en-US" sz="2400" spc="-1" strike="noStrike">
                <a:solidFill>
                  <a:srgbClr val="003366"/>
                </a:solidFill>
                <a:latin typeface="Arial"/>
              </a:rPr>
              <a:t>) </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dience expectations</a:t>
            </a:r>
            <a:endParaRPr b="1" lang="en-US" sz="3600" spc="-1" strike="noStrike">
              <a:solidFill>
                <a:srgbClr val="006666"/>
              </a:solidFill>
              <a:latin typeface="Arial"/>
            </a:endParaRPr>
          </a:p>
        </p:txBody>
      </p:sp>
      <p:sp>
        <p:nvSpPr>
          <p:cNvPr id="164"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aders from other cultures will often have a different set of reader expect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 sensitive to these differences when writing to or for people from other cultures.</a:t>
            </a:r>
            <a:endParaRPr b="0" lang="en-US" sz="2400" spc="-1" strike="noStrike">
              <a:solidFill>
                <a:srgbClr val="003366"/>
              </a:solidFill>
              <a:latin typeface="Arial"/>
            </a:endParaRPr>
          </a:p>
        </p:txBody>
      </p:sp>
      <p:pic>
        <p:nvPicPr>
          <p:cNvPr id="165" name="bd07246_" descr=""/>
          <p:cNvPicPr/>
          <p:nvPr/>
        </p:nvPicPr>
        <p:blipFill>
          <a:blip r:embed="rId1"/>
          <a:stretch/>
        </p:blipFill>
        <p:spPr>
          <a:xfrm>
            <a:off x="914400" y="2824200"/>
            <a:ext cx="3924360" cy="280836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dience expectations</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strategies for communicating with those from different culture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 formality—use titles and family names and convey an attitude of propriety.</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slang, jargon, and other figures of speech (</a:t>
            </a:r>
            <a:r>
              <a:rPr b="0" lang="en-US" sz="2400" spc="-1" strike="noStrike">
                <a:solidFill>
                  <a:srgbClr val="cf5731"/>
                </a:solidFill>
                <a:latin typeface="Arial"/>
              </a:rPr>
              <a:t>zero tolerance policy, once-over, done deal, user-friendly, etc.).</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 specific and illustrate your points with concrete example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summary.</a:t>
            </a:r>
            <a:endParaRPr b="0" lang="en-US" sz="2400" spc="-1" strike="noStrike">
              <a:solidFill>
                <a:srgbClr val="003366"/>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ent refers to the information included in the mess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ing your audience will help you to determine what information to include in the document.  </a:t>
            </a:r>
            <a:endParaRPr b="0" lang="en-US" sz="2400" spc="-1" strike="noStrike">
              <a:solidFill>
                <a:srgbClr val="003366"/>
              </a:solidFill>
              <a:latin typeface="Arial"/>
            </a:endParaRPr>
          </a:p>
        </p:txBody>
      </p:sp>
      <p:sp>
        <p:nvSpPr>
          <p:cNvPr id="170"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Your Goal:</a:t>
            </a:r>
            <a:r>
              <a:rPr b="0" lang="en-US" sz="2400" spc="-1" strike="noStrike">
                <a:solidFill>
                  <a:srgbClr val="003366"/>
                </a:solidFill>
                <a:latin typeface="Arial"/>
              </a:rPr>
              <a:t> to include enough information to keep the reader’s interest but not so much information that you waste the reader’s time and obscure your main point.</a:t>
            </a:r>
            <a:endParaRPr b="0" lang="en-US" sz="2400" spc="-1" strike="noStrike">
              <a:solidFill>
                <a:srgbClr val="003366"/>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 not begin writing your document until you have planned what you want to sa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will help you avoid writer’s block or writing a poorly developed message. </a:t>
            </a:r>
            <a:endParaRPr b="0" lang="en-US" sz="2400" spc="-1" strike="noStrike">
              <a:solidFill>
                <a:srgbClr val="003366"/>
              </a:solidFill>
              <a:latin typeface="Arial"/>
            </a:endParaRPr>
          </a:p>
        </p:txBody>
      </p:sp>
      <p:sp>
        <p:nvSpPr>
          <p:cNvPr id="173"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k yourself:</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background information is needed?</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can I best support my conclusions?</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uld examples, details, or graphics help readers to understand?</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 I need to do any more research?</a:t>
            </a:r>
            <a:endParaRPr b="0" lang="en-US" sz="2400" spc="-1" strike="noStrike">
              <a:solidFill>
                <a:srgbClr val="0033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common methods that writers use to help them determine content a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ainstorm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uster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6" name="pe03336a" descr=""/>
          <p:cNvPicPr/>
          <p:nvPr/>
        </p:nvPicPr>
        <p:blipFill>
          <a:blip r:embed="rId1"/>
          <a:stretch/>
        </p:blipFill>
        <p:spPr>
          <a:xfrm>
            <a:off x="4991040" y="2620800"/>
            <a:ext cx="3924360" cy="32166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78" name="PlaceHolder 2"/>
          <p:cNvSpPr>
            <a:spLocks noGrp="1"/>
          </p:cNvSpPr>
          <p:nvPr>
            <p:ph/>
          </p:nvPr>
        </p:nvSpPr>
        <p:spPr>
          <a:xfrm>
            <a:off x="6854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ing:  create a hierarchy of your ide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will help you to identify what your main points are, what supporting material is available, and what other information you need to include.</a:t>
            </a:r>
            <a:endParaRPr b="0" lang="en-US" sz="2400" spc="-1" strike="noStrike">
              <a:solidFill>
                <a:srgbClr val="003366"/>
              </a:solidFill>
              <a:latin typeface="Arial"/>
            </a:endParaRPr>
          </a:p>
        </p:txBody>
      </p:sp>
      <p:sp>
        <p:nvSpPr>
          <p:cNvPr id="179" name="PlaceHolder 3"/>
          <p:cNvSpPr>
            <a:spLocks noGrp="1"/>
          </p:cNvSpPr>
          <p:nvPr>
            <p:ph/>
          </p:nvPr>
        </p:nvSpPr>
        <p:spPr>
          <a:xfrm>
            <a:off x="4495320" y="2361960"/>
            <a:ext cx="4419720" cy="3733560"/>
          </a:xfrm>
          <a:prstGeom prst="rect">
            <a:avLst/>
          </a:prstGeom>
          <a:noFill/>
          <a:ln w="0">
            <a:noFill/>
          </a:ln>
        </p:spPr>
        <p:txBody>
          <a:bodyPr lIns="90000" rIns="90000" tIns="46800" bIns="46800" anchor="t">
            <a:normAutofit fontScale="90000"/>
          </a:bodyPr>
          <a:p>
            <a:pPr marL="548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5731"/>
                </a:solidFill>
                <a:latin typeface="Arial"/>
              </a:rPr>
              <a:t>Progress Report for January 2002</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I.  Background</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	</a:t>
            </a:r>
            <a:r>
              <a:rPr b="0" lang="en-US" sz="2000" spc="-1" strike="noStrike">
                <a:solidFill>
                  <a:srgbClr val="cf5731"/>
                </a:solidFill>
                <a:latin typeface="Arial"/>
              </a:rPr>
              <a:t>A.  Details of my being hired in Dec. 2001  </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	</a:t>
            </a:r>
            <a:r>
              <a:rPr b="0" lang="en-US" sz="2000" spc="-1" strike="noStrike">
                <a:solidFill>
                  <a:srgbClr val="cf5731"/>
                </a:solidFill>
                <a:latin typeface="Arial"/>
              </a:rPr>
              <a:t>B. My objectives the first month</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II. Work completed to date</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	</a:t>
            </a:r>
            <a:r>
              <a:rPr b="0" lang="en-US" sz="2000" spc="-1" strike="noStrike">
                <a:solidFill>
                  <a:srgbClr val="cf5731"/>
                </a:solidFill>
                <a:latin typeface="Arial"/>
              </a:rPr>
              <a:t>A.  Developed a plan and presented it to the necessary committee</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	</a:t>
            </a:r>
            <a:r>
              <a:rPr b="0" lang="en-US" sz="2000" spc="-1" strike="noStrike">
                <a:solidFill>
                  <a:srgbClr val="cf5731"/>
                </a:solidFill>
                <a:latin typeface="Arial"/>
              </a:rPr>
              <a:t>B.  Plan has been approved</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III.  Work to be completed</a:t>
            </a:r>
            <a:endParaRPr b="0" lang="en-US" sz="2000" spc="-1" strike="noStrike">
              <a:solidFill>
                <a:srgbClr val="003366"/>
              </a:solidFill>
              <a:latin typeface="Arial"/>
            </a:endParaRPr>
          </a:p>
          <a:p>
            <a:pPr marL="548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5731"/>
                </a:solidFill>
                <a:latin typeface="Arial"/>
              </a:rPr>
              <a:t>	</a:t>
            </a:r>
            <a:r>
              <a:rPr b="0" lang="en-US" sz="2000" spc="-1" strike="noStrike">
                <a:solidFill>
                  <a:srgbClr val="cf5731"/>
                </a:solidFill>
                <a:latin typeface="Arial"/>
              </a:rPr>
              <a:t>A.  Plan will be initiated by March 2002 </a:t>
            </a:r>
            <a:endParaRPr b="0" lang="en-US" sz="2000" spc="-1" strike="noStrike">
              <a:solidFill>
                <a:srgbClr val="003366"/>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a:t>
            </a:r>
            <a:endParaRPr b="1" lang="en-US" sz="3600" spc="-1" strike="noStrike">
              <a:solidFill>
                <a:srgbClr val="006666"/>
              </a:solidFill>
              <a:latin typeface="Arial"/>
            </a:endParaRPr>
          </a:p>
        </p:txBody>
      </p:sp>
      <p:sp>
        <p:nvSpPr>
          <p:cNvPr id="181"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Jan.2002 Progress Report:  </a:t>
            </a:r>
            <a:endParaRPr b="0" lang="en-US" sz="2400" spc="-1" strike="noStrike">
              <a:solidFill>
                <a:srgbClr val="003366"/>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Being hired:  no clear procedure for handling mail.</a:t>
            </a:r>
            <a:endParaRPr b="0" lang="en-US" sz="2400" spc="-1" strike="noStrike">
              <a:solidFill>
                <a:srgbClr val="003366"/>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My plan:  name of the committee who approved it??</a:t>
            </a:r>
            <a:endParaRPr b="0" lang="en-US" sz="2400" spc="-1" strike="noStrike">
              <a:solidFill>
                <a:srgbClr val="003366"/>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5731"/>
                </a:solidFill>
                <a:latin typeface="Arial"/>
              </a:rPr>
              <a:t>---Susan and I hope the plan will be in place by March 2002.</a:t>
            </a:r>
            <a:endParaRPr b="0" lang="en-US" sz="2400" spc="-1" strike="noStrike">
              <a:solidFill>
                <a:srgbClr val="003366"/>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2"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ainstorming: write down ideas, facts, and anything else that seems related to your purpo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edit yourself as you brainstorm.</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re finished, decide what’s important and what can be deleted or revised.</a:t>
            </a:r>
            <a:endParaRPr b="0" lang="en-US" sz="2400" spc="-1" strike="noStrike">
              <a:solidFill>
                <a:srgbClr val="0033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now your audienc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will be able to write most persuasively if you know your audience and their expectations and if you organize your message to address their needs.</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07" name="bd07073_" descr=""/>
          <p:cNvPicPr/>
          <p:nvPr/>
        </p:nvPicPr>
        <p:blipFill>
          <a:blip r:embed="rId1"/>
          <a:stretch/>
        </p:blipFill>
        <p:spPr>
          <a:xfrm>
            <a:off x="4991040" y="2560680"/>
            <a:ext cx="3924360" cy="3335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8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ustering: Write your main point in the middle of the page and circle i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you think of ideas, write them down and link them to either the main idea or to another poin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5" name=""/>
          <p:cNvSpPr/>
          <p:nvPr/>
        </p:nvSpPr>
        <p:spPr>
          <a:xfrm>
            <a:off x="6019920" y="3581280"/>
            <a:ext cx="1676160" cy="91440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6172200" y="38098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My progress</a:t>
            </a:r>
            <a:endParaRPr b="0" lang="en-US" sz="2000" spc="-1" strike="noStrike">
              <a:solidFill>
                <a:srgbClr val="003366"/>
              </a:solidFill>
              <a:latin typeface="Times New Roman"/>
            </a:endParaRPr>
          </a:p>
        </p:txBody>
      </p:sp>
      <p:sp>
        <p:nvSpPr>
          <p:cNvPr id="187" name=""/>
          <p:cNvSpPr/>
          <p:nvPr/>
        </p:nvSpPr>
        <p:spPr>
          <a:xfrm>
            <a:off x="5181480" y="2666880"/>
            <a:ext cx="1219320" cy="83844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5181480" y="5334120"/>
            <a:ext cx="1600200" cy="76176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7543800" y="4952880"/>
            <a:ext cx="1371600" cy="68580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5334120" y="533412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ork finished</a:t>
            </a:r>
            <a:endParaRPr b="0" lang="en-US" sz="2000" spc="-1" strike="noStrike">
              <a:solidFill>
                <a:srgbClr val="003366"/>
              </a:solidFill>
              <a:latin typeface="Times New Roman"/>
            </a:endParaRPr>
          </a:p>
        </p:txBody>
      </p:sp>
      <p:sp>
        <p:nvSpPr>
          <p:cNvPr id="191" name=""/>
          <p:cNvSpPr/>
          <p:nvPr/>
        </p:nvSpPr>
        <p:spPr>
          <a:xfrm>
            <a:off x="5486400" y="28195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2" name=""/>
          <p:cNvSpPr/>
          <p:nvPr/>
        </p:nvSpPr>
        <p:spPr>
          <a:xfrm>
            <a:off x="5334120" y="2743200"/>
            <a:ext cx="99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ired in Dec.</a:t>
            </a:r>
            <a:endParaRPr b="0" lang="en-US" sz="2000" spc="-1" strike="noStrike">
              <a:solidFill>
                <a:srgbClr val="003366"/>
              </a:solidFill>
              <a:latin typeface="Times New Roman"/>
            </a:endParaRPr>
          </a:p>
        </p:txBody>
      </p:sp>
      <p:sp>
        <p:nvSpPr>
          <p:cNvPr id="193" name=""/>
          <p:cNvSpPr/>
          <p:nvPr/>
        </p:nvSpPr>
        <p:spPr>
          <a:xfrm flipH="1">
            <a:off x="6019560" y="4495680"/>
            <a:ext cx="68580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4" name=""/>
          <p:cNvSpPr/>
          <p:nvPr/>
        </p:nvSpPr>
        <p:spPr>
          <a:xfrm flipH="1" flipV="1">
            <a:off x="6095880" y="3504960"/>
            <a:ext cx="15264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5" name=""/>
          <p:cNvSpPr/>
          <p:nvPr/>
        </p:nvSpPr>
        <p:spPr>
          <a:xfrm>
            <a:off x="6781680" y="5562720"/>
            <a:ext cx="990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6" name="PlaceHolder 3"/>
          <p:cNvSpPr>
            <a:spLocks noGrp="1"/>
          </p:cNvSpPr>
          <p:nvPr>
            <p:ph/>
          </p:nvPr>
        </p:nvSpPr>
        <p:spPr>
          <a:xfrm>
            <a:off x="4990680" y="1904760"/>
            <a:ext cx="3924360" cy="4647960"/>
          </a:xfrm>
          <a:prstGeom prst="rect">
            <a:avLst/>
          </a:prstGeom>
          <a:noFill/>
          <a:ln w="0">
            <a:noFill/>
          </a:ln>
        </p:spPr>
        <p:txBody>
          <a:bodyPr anchor="t">
            <a:normAutofit/>
          </a:bodyPr>
          <a:p>
            <a:pPr marL="343080"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Work to do                             </a:t>
            </a:r>
            <a:endParaRPr b="0" lang="en-US" sz="2000" spc="-1" strike="noStrike">
              <a:solidFill>
                <a:srgbClr val="003366"/>
              </a:solidFill>
              <a:latin typeface="Arial"/>
            </a:endParaRPr>
          </a:p>
        </p:txBody>
      </p:sp>
      <p:sp>
        <p:nvSpPr>
          <p:cNvPr id="197" name=""/>
          <p:cNvSpPr/>
          <p:nvPr/>
        </p:nvSpPr>
        <p:spPr>
          <a:xfrm>
            <a:off x="7620120" y="4952880"/>
            <a:ext cx="1218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ork to do</a:t>
            </a:r>
            <a:endParaRPr b="0" lang="en-US" sz="2000" spc="-1" strike="noStrike">
              <a:solidFill>
                <a:srgbClr val="003366"/>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ation</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99"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ation refers to the order in which information is presen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you know what information you want to include in your document, you can decide how to organize that information.</a:t>
            </a:r>
            <a:endParaRPr b="0" lang="en-US" sz="2400" spc="-1" strike="noStrike">
              <a:solidFill>
                <a:srgbClr val="003366"/>
              </a:solidFill>
              <a:latin typeface="Arial"/>
            </a:endParaRPr>
          </a:p>
        </p:txBody>
      </p:sp>
      <p:pic>
        <p:nvPicPr>
          <p:cNvPr id="200" name="bs01594_" descr=""/>
          <p:cNvPicPr/>
          <p:nvPr/>
        </p:nvPicPr>
        <p:blipFill>
          <a:blip r:embed="rId1"/>
          <a:stretch/>
        </p:blipFill>
        <p:spPr>
          <a:xfrm>
            <a:off x="957240" y="2362320"/>
            <a:ext cx="3836880" cy="373356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ation</a:t>
            </a:r>
            <a:endParaRPr b="1" lang="en-US" sz="3600" spc="-1" strike="noStrike">
              <a:solidFill>
                <a:srgbClr val="006666"/>
              </a:solidFill>
              <a:latin typeface="Arial"/>
            </a:endParaRPr>
          </a:p>
        </p:txBody>
      </p:sp>
      <p:sp>
        <p:nvSpPr>
          <p:cNvPr id="2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rst step to organizing is to group like information toge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xt, consider the reaction you are likely to get from your read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pe03260_" descr=""/>
          <p:cNvPicPr/>
          <p:nvPr/>
        </p:nvPicPr>
        <p:blipFill>
          <a:blip r:embed="rId1"/>
          <a:stretch/>
        </p:blipFill>
        <p:spPr>
          <a:xfrm>
            <a:off x="1905120" y="4343400"/>
            <a:ext cx="1904760" cy="2097000"/>
          </a:xfrm>
          <a:prstGeom prst="rect">
            <a:avLst/>
          </a:prstGeom>
          <a:ln w="0">
            <a:noFill/>
          </a:ln>
        </p:spPr>
      </p:pic>
      <p:pic>
        <p:nvPicPr>
          <p:cNvPr id="204" name="pe01758_" descr=""/>
          <p:cNvPicPr/>
          <p:nvPr/>
        </p:nvPicPr>
        <p:blipFill>
          <a:blip r:embed="rId2"/>
          <a:stretch/>
        </p:blipFill>
        <p:spPr>
          <a:xfrm>
            <a:off x="5562720" y="4343400"/>
            <a:ext cx="2209680" cy="21654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ation</a:t>
            </a:r>
            <a:endParaRPr b="1" lang="en-US" sz="3600" spc="-1" strike="noStrike">
              <a:solidFill>
                <a:srgbClr val="006666"/>
              </a:solidFill>
              <a:latin typeface="Arial"/>
            </a:endParaRPr>
          </a:p>
        </p:txBody>
      </p:sp>
      <p:sp>
        <p:nvSpPr>
          <p:cNvPr id="206"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expect a positive response, you can use a direct organizational plan.</a:t>
            </a:r>
            <a:endParaRPr b="0" lang="en-US" sz="2600" spc="-1" strike="noStrike">
              <a:solidFill>
                <a:srgbClr val="003366"/>
              </a:solidFill>
              <a:latin typeface="Arial"/>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resent your conclusions or major idea first, followed by the reasons or support.</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07" name="PlaceHolder 3"/>
          <p:cNvSpPr>
            <a:spLocks noGrp="1"/>
          </p:cNvSpPr>
          <p:nvPr>
            <p:ph/>
          </p:nvPr>
        </p:nvSpPr>
        <p:spPr>
          <a:xfrm>
            <a:off x="4990680" y="2361960"/>
            <a:ext cx="3924360" cy="41907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I recently came across your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posting for aviation interns on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an employment opportunities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board.  My organizational,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leadership, and problem-</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solving skills uniquely qualify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me for the position of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planning and development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intern at Phoenix Sky Harbor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ea typeface="Times New Roman"/>
              </a:rPr>
              <a:t>International Airport. </a:t>
            </a:r>
            <a:endParaRPr b="0" lang="en-US" sz="2200" spc="-1" strike="noStrike">
              <a:solidFill>
                <a:srgbClr val="003366"/>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ation</a:t>
            </a:r>
            <a:endParaRPr b="1" lang="en-US" sz="3600" spc="-1" strike="noStrike">
              <a:solidFill>
                <a:srgbClr val="006666"/>
              </a:solidFill>
              <a:latin typeface="Arial"/>
            </a:endParaRPr>
          </a:p>
        </p:txBody>
      </p:sp>
      <p:sp>
        <p:nvSpPr>
          <p:cNvPr id="209" name="PlaceHolder 2"/>
          <p:cNvSpPr>
            <a:spLocks noGrp="1"/>
          </p:cNvSpPr>
          <p:nvPr>
            <p:ph/>
          </p:nvPr>
        </p:nvSpPr>
        <p:spPr>
          <a:xfrm>
            <a:off x="914040" y="2362320"/>
            <a:ext cx="392436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You did such a good job of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explaining the merits of our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new Tuition Assistance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Program that I have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tentatively decided to apply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for the program myself.  To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keep my options open, then, I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must ask you to select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someone else to serve on the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f5731"/>
                </a:solidFill>
                <a:latin typeface="Arial"/>
              </a:rPr>
              <a:t>program committee. . .</a:t>
            </a:r>
            <a:endParaRPr b="0" lang="en-US" sz="2200" spc="-1" strike="noStrike">
              <a:solidFill>
                <a:srgbClr val="003366"/>
              </a:solidFill>
              <a:latin typeface="Arial"/>
            </a:endParaRPr>
          </a:p>
        </p:txBody>
      </p:sp>
      <p:sp>
        <p:nvSpPr>
          <p:cNvPr id="210"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expect a negative response, you might choose to use an indirect organizational pla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your reasons first and your conclusions aft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when using this plan, be sure to state your main point up front.</a:t>
            </a:r>
            <a:endParaRPr b="0" lang="en-US" sz="2400" spc="-1" strike="noStrike">
              <a:solidFill>
                <a:srgbClr val="003366"/>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ation</a:t>
            </a:r>
            <a:endParaRPr b="1" lang="en-US" sz="3600" spc="-1" strike="noStrike">
              <a:solidFill>
                <a:srgbClr val="006666"/>
              </a:solidFill>
              <a:latin typeface="Arial"/>
            </a:endParaRPr>
          </a:p>
        </p:txBody>
      </p:sp>
      <p:sp>
        <p:nvSpPr>
          <p:cNvPr id="21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organize information in paragraphs to meet the needs of skimmers and skeptics.  </a:t>
            </a:r>
            <a:endParaRPr b="0" lang="en-US" sz="2400" spc="-1" strike="noStrike">
              <a:solidFill>
                <a:srgbClr val="003366"/>
              </a:solidFill>
              <a:latin typeface="Arial"/>
            </a:endParaRPr>
          </a:p>
        </p:txBody>
      </p:sp>
      <p:pic>
        <p:nvPicPr>
          <p:cNvPr id="213" name="bd10037_" descr=""/>
          <p:cNvPicPr/>
          <p:nvPr/>
        </p:nvPicPr>
        <p:blipFill>
          <a:blip r:embed="rId1"/>
          <a:stretch/>
        </p:blipFill>
        <p:spPr>
          <a:xfrm>
            <a:off x="4991040" y="2619360"/>
            <a:ext cx="3924360" cy="32194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ation</a:t>
            </a:r>
            <a:endParaRPr b="1" lang="en-US" sz="3600" spc="-1" strike="noStrike">
              <a:solidFill>
                <a:srgbClr val="006666"/>
              </a:solidFill>
              <a:latin typeface="Arial"/>
            </a:endParaRPr>
          </a:p>
        </p:txBody>
      </p:sp>
      <p:sp>
        <p:nvSpPr>
          <p:cNvPr id="2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 information where readers are most likely to look for i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kimmers are most likely to read the first and last paragraphs of a messa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in paragraphs, skimmers are most likely to read the first and last sentence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ation</a:t>
            </a:r>
            <a:endParaRPr b="1" lang="en-US" sz="3600" spc="-1" strike="noStrike">
              <a:solidFill>
                <a:srgbClr val="006666"/>
              </a:solidFill>
              <a:latin typeface="Arial"/>
            </a:endParaRPr>
          </a:p>
        </p:txBody>
      </p:sp>
      <p:sp>
        <p:nvSpPr>
          <p:cNvPr id="2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paragraphs effectivel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ep paragraphs short. Readers are more likely to read a longer message broken into several short paragraphs than they are a shorter message without break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paragraph should contain only one main point, and this point should be developed with concrete evidence and details.</a:t>
            </a:r>
            <a:endParaRPr b="0" lang="en-US" sz="2400" spc="-1" strike="noStrike">
              <a:solidFill>
                <a:srgbClr val="003366"/>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d I effectively reach my audience?</a:t>
            </a:r>
            <a:endParaRPr b="1" lang="en-US" sz="3600" spc="-1" strike="noStrike">
              <a:solidFill>
                <a:srgbClr val="006666"/>
              </a:solidFill>
              <a:latin typeface="Arial"/>
            </a:endParaRPr>
          </a:p>
        </p:txBody>
      </p:sp>
      <p:sp>
        <p:nvSpPr>
          <p:cNvPr id="2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When you have finished writing your message, evaluate your writing by considering whether or not you effectively addressed your reader. </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It may be necessary to rewrite or reorganize the document to make your message clear.</a:t>
            </a:r>
            <a:endParaRPr b="0" lang="en-US" sz="3000" spc="-1" strike="noStrike">
              <a:solidFill>
                <a:srgbClr val="003366"/>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0-second test</a:t>
            </a:r>
            <a:endParaRPr b="1" lang="en-US" sz="3600" spc="-1" strike="noStrike">
              <a:solidFill>
                <a:srgbClr val="006666"/>
              </a:solidFill>
              <a:latin typeface="Arial"/>
            </a:endParaRPr>
          </a:p>
        </p:txBody>
      </p:sp>
      <p:sp>
        <p:nvSpPr>
          <p:cNvPr id="221"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kimmers are likely to spend 20 seconds or less skimming a document to decide whether or not to read it more carefully. </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kim your document for 20 seconds, and mark what stands out most to you in that amount of time.</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endParaRPr b="0" lang="en-US" sz="1800" spc="-1" strike="noStrike">
              <a:solidFill>
                <a:srgbClr val="003366"/>
              </a:solidFill>
              <a:latin typeface="Arial"/>
            </a:endParaRPr>
          </a:p>
        </p:txBody>
      </p:sp>
      <p:sp>
        <p:nvSpPr>
          <p:cNvPr id="222"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you are finished, see if what you have marked is able to convey your message clearly.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better, have someone else skim your document before sending it, and see if your message is clear to them as well. </a:t>
            </a:r>
            <a:br>
              <a:rPr sz="2400"/>
            </a:br>
            <a:r>
              <a:rPr b="0" lang="en-US" sz="2400" spc="-1" strike="noStrike">
                <a:solidFill>
                  <a:srgbClr val="003366"/>
                </a:solidFill>
                <a:latin typeface="Arial"/>
              </a:rPr>
              <a:t> </a:t>
            </a:r>
            <a:endParaRPr b="0" lang="en-US" sz="2400" spc="-1" strike="noStrike">
              <a:solidFill>
                <a:srgbClr val="003366"/>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now your audience</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457200" indent="-45720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ometimes you will know your audience personally.</a:t>
            </a:r>
            <a:endParaRPr b="0" lang="en-US" sz="2600" spc="-1" strike="noStrike">
              <a:solidFill>
                <a:srgbClr val="003366"/>
              </a:solidFill>
              <a:latin typeface="Arial"/>
            </a:endParaRPr>
          </a:p>
          <a:p>
            <a:pPr marL="457200" indent="-45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ther times you will not know your audience personally, or you will need to write to more than one person.</a:t>
            </a: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10" name="bd09264_" descr=""/>
          <p:cNvPicPr/>
          <p:nvPr/>
        </p:nvPicPr>
        <p:blipFill>
          <a:blip r:embed="rId1"/>
          <a:stretch/>
        </p:blipFill>
        <p:spPr>
          <a:xfrm>
            <a:off x="6477120" y="4419720"/>
            <a:ext cx="1752480" cy="1884240"/>
          </a:xfrm>
          <a:prstGeom prst="rect">
            <a:avLst/>
          </a:prstGeom>
          <a:ln w="0">
            <a:noFill/>
          </a:ln>
        </p:spPr>
      </p:pic>
      <p:pic>
        <p:nvPicPr>
          <p:cNvPr id="111" name="bd09263_" descr=""/>
          <p:cNvPicPr/>
          <p:nvPr/>
        </p:nvPicPr>
        <p:blipFill>
          <a:blip r:embed="rId2"/>
          <a:stretch/>
        </p:blipFill>
        <p:spPr>
          <a:xfrm>
            <a:off x="1295280" y="4495680"/>
            <a:ext cx="1879560" cy="1749600"/>
          </a:xfrm>
          <a:prstGeom prst="rect">
            <a:avLst/>
          </a:prstGeom>
          <a:ln w="0">
            <a:noFill/>
          </a:ln>
        </p:spPr>
      </p:pic>
      <p:pic>
        <p:nvPicPr>
          <p:cNvPr id="112" name="bd09261_" descr=""/>
          <p:cNvPicPr/>
          <p:nvPr/>
        </p:nvPicPr>
        <p:blipFill>
          <a:blip r:embed="rId3"/>
          <a:stretch/>
        </p:blipFill>
        <p:spPr>
          <a:xfrm>
            <a:off x="3962520" y="4267080"/>
            <a:ext cx="1600200" cy="205452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ing your assertions</a:t>
            </a:r>
            <a:endParaRPr b="1" lang="en-US" sz="3600" spc="-1" strike="noStrike">
              <a:solidFill>
                <a:srgbClr val="006666"/>
              </a:solidFill>
              <a:latin typeface="Arial"/>
            </a:endParaRPr>
          </a:p>
        </p:txBody>
      </p:sp>
      <p:sp>
        <p:nvSpPr>
          <p:cNvPr id="22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ect skeptical readers to question every assertion that you mak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ook at your document closely and underline each of your major asserti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25" name="PlaceHolder 3"/>
          <p:cNvSpPr>
            <a:spLocks noGrp="1"/>
          </p:cNvSpPr>
          <p:nvPr>
            <p:ph/>
          </p:nvPr>
        </p:nvSpPr>
        <p:spPr>
          <a:xfrm>
            <a:off x="4495320" y="2361960"/>
            <a:ext cx="4419720" cy="3733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k the following questions about each assertion:</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e assertion clearly stated? </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d I include enough details and examples to support my assertion? </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it clear what I want the reader to do or know? </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 I provide enough context for the assertion or is more background information needed?</a:t>
            </a:r>
            <a:endParaRPr b="0" lang="en-US" sz="20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ideas</a:t>
            </a:r>
            <a:endParaRPr b="1" lang="en-US" sz="3600" spc="-1" strike="noStrike">
              <a:solidFill>
                <a:srgbClr val="006666"/>
              </a:solidFill>
              <a:latin typeface="Arial"/>
            </a:endParaRPr>
          </a:p>
        </p:txBody>
      </p:sp>
      <p:sp>
        <p:nvSpPr>
          <p:cNvPr id="227" name="PlaceHolder 2"/>
          <p:cNvSpPr>
            <a:spLocks noGrp="1"/>
          </p:cNvSpPr>
          <p:nvPr>
            <p:ph/>
          </p:nvPr>
        </p:nvSpPr>
        <p:spPr>
          <a:xfrm>
            <a:off x="4190760" y="2361960"/>
            <a:ext cx="4724280" cy="3733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 your audience</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t to the point</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ep it simple</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ctive and passive voice appropriately</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n your content</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se the order in which content is to be presented</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it pass the 20 second test?</a:t>
            </a:r>
            <a:endParaRPr b="0" lang="en-US" sz="2400" spc="-1" strike="noStrike">
              <a:solidFill>
                <a:srgbClr val="003366"/>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8" name="bd05503_" descr=""/>
          <p:cNvPicPr/>
          <p:nvPr/>
        </p:nvPicPr>
        <p:blipFill>
          <a:blip r:embed="rId1"/>
          <a:stretch/>
        </p:blipFill>
        <p:spPr>
          <a:xfrm>
            <a:off x="914400" y="2514600"/>
            <a:ext cx="3348000" cy="3193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you know your reader</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ut yourself in your reader’s place and look at your message through that person’s eyes.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5"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r message does not meet your reader’s needs or if it isn’t written at his or her level of understanding, your message may be ignored.</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you know your reader</a:t>
            </a:r>
            <a:endParaRPr b="1" lang="en-US" sz="3600" spc="-1" strike="noStrike">
              <a:solidFill>
                <a:srgbClr val="006666"/>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fore you write, ask yourself these questions about your reader:</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interested or involved in the subject is my reader?</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knowledgeable is he or she on the subject?</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my reader’s purpose for reading?  To make a decision?  To be better informed?</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es my reader have special concerns or strong views about the subject?  What are they?</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es my reader regard me personally and professionally?</a:t>
            </a:r>
            <a:endParaRPr b="0" lang="en-US" sz="20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my reader’s style of doing business?</a:t>
            </a:r>
            <a:endParaRPr b="0" lang="en-US" sz="2000" spc="-1" strike="noStrike">
              <a:solidFill>
                <a:srgbClr val="00336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you do not know your reader</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general types of business readers:  </a:t>
            </a:r>
            <a:r>
              <a:rPr b="1" lang="en-US" sz="2800" spc="-1" strike="noStrike">
                <a:solidFill>
                  <a:srgbClr val="003366"/>
                </a:solidFill>
                <a:latin typeface="Arial"/>
              </a:rPr>
              <a:t>skimmers and skeptic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r documents will be most effective if you write for both types of readers.</a:t>
            </a:r>
            <a:endParaRPr b="0" lang="en-US" sz="2800" spc="-1" strike="noStrike">
              <a:solidFill>
                <a:srgbClr val="003366"/>
              </a:solidFill>
              <a:latin typeface="Arial"/>
            </a:endParaRPr>
          </a:p>
        </p:txBody>
      </p:sp>
      <p:pic>
        <p:nvPicPr>
          <p:cNvPr id="120" name="bd04975_" descr=""/>
          <p:cNvPicPr/>
          <p:nvPr/>
        </p:nvPicPr>
        <p:blipFill>
          <a:blip r:embed="rId1"/>
          <a:stretch/>
        </p:blipFill>
        <p:spPr>
          <a:xfrm>
            <a:off x="3809880" y="4800600"/>
            <a:ext cx="1609920" cy="17524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you do not know your reader</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Skimmers</a:t>
            </a:r>
            <a:r>
              <a:rPr b="0" lang="en-US" sz="2600" spc="-1" strike="noStrike">
                <a:solidFill>
                  <a:srgbClr val="003366"/>
                </a:solidFill>
                <a:latin typeface="Arial"/>
              </a:rPr>
              <a:t> are readers that are typically very busy. Pressed for time, they often skim documents in a rather short period of time.</a:t>
            </a:r>
            <a:r>
              <a:rPr b="0" lang="en-US" sz="2400" spc="-1" strike="noStrike">
                <a:solidFill>
                  <a:srgbClr val="003366"/>
                </a:solidFill>
                <a:latin typeface="Verdana"/>
              </a:rPr>
              <a:t>  </a:t>
            </a:r>
            <a:endParaRPr b="0" lang="en-US" sz="2400" spc="-1" strike="noStrike">
              <a:solidFill>
                <a:srgbClr val="003366"/>
              </a:solidFill>
              <a:latin typeface="Arial"/>
            </a:endParaRPr>
          </a:p>
        </p:txBody>
      </p:sp>
      <p:sp>
        <p:nvSpPr>
          <p:cNvPr id="123"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ocuments you </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for skimmers </a:t>
            </a:r>
            <a:endParaRPr b="0" lang="en-US" sz="24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uld:</a:t>
            </a:r>
            <a:endParaRPr b="0" lang="en-US" sz="2400" spc="-1" strike="noStrike">
              <a:solidFill>
                <a:srgbClr val="003366"/>
              </a:solidFill>
              <a:latin typeface="Arial"/>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ate the main point clearly and up front </a:t>
            </a:r>
            <a:endParaRPr b="0" lang="en-US" sz="2200" spc="-1" strike="noStrike">
              <a:solidFill>
                <a:srgbClr val="003366"/>
              </a:solidFill>
              <a:latin typeface="Arial"/>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lace the most important information at the beginning or ending of paragraphs </a:t>
            </a:r>
            <a:endParaRPr b="0" lang="en-US" sz="2200" spc="-1" strike="noStrike">
              <a:solidFill>
                <a:srgbClr val="003366"/>
              </a:solidFill>
              <a:latin typeface="Arial"/>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ighlight key dates or figures </a:t>
            </a:r>
            <a:endParaRPr b="0" lang="en-US" sz="2200" spc="-1" strike="noStrike">
              <a:solidFill>
                <a:srgbClr val="003366"/>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you do not know your reader</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econd type of reader is a </a:t>
            </a:r>
            <a:r>
              <a:rPr b="1" lang="en-US" sz="2400" spc="-1" strike="noStrike">
                <a:solidFill>
                  <a:srgbClr val="003366"/>
                </a:solidFill>
                <a:latin typeface="Arial"/>
              </a:rPr>
              <a:t>Skeptic.</a:t>
            </a:r>
            <a:r>
              <a:rPr b="0" lang="en-US" sz="2400" spc="-1" strike="noStrike">
                <a:solidFill>
                  <a:srgbClr val="003366"/>
                </a:solidFill>
                <a:latin typeface="Arial"/>
              </a:rPr>
              <a:t> A Skeptic is a reader that is cautious and doubtful.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keptical readers will tend to read a document carefully, questioning its validity and the writer’s claims. </a:t>
            </a:r>
            <a:endParaRPr b="0" lang="en-US" sz="2400" spc="-1" strike="noStrike">
              <a:solidFill>
                <a:srgbClr val="003366"/>
              </a:solidFill>
              <a:latin typeface="Arial"/>
            </a:endParaRPr>
          </a:p>
        </p:txBody>
      </p:sp>
      <p:pic>
        <p:nvPicPr>
          <p:cNvPr id="126" name="bd04969_" descr=""/>
          <p:cNvPicPr/>
          <p:nvPr/>
        </p:nvPicPr>
        <p:blipFill>
          <a:blip r:embed="rId1"/>
          <a:stretch/>
        </p:blipFill>
        <p:spPr>
          <a:xfrm>
            <a:off x="4991040" y="2414520"/>
            <a:ext cx="3924360" cy="36291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01:30:24Z</dcterms:created>
  <dc:creator>Angela Laflen</dc:creator>
  <dc:description/>
  <dc:language>en-US</dc:language>
  <cp:lastModifiedBy>Barbara White</cp:lastModifiedBy>
  <dcterms:modified xsi:type="dcterms:W3CDTF">2004-02-09T00:06:47Z</dcterms:modified>
  <cp:revision>42</cp:revision>
  <dc:subject/>
  <dc:title>Audience and Organization</dc:title>
</cp:coreProperties>
</file>